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DBE2D-C140-4E8C-B6B5-9EA8F8A5EF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brid space for hybrid research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9E7149-81AC-4973-B1C9-246E34341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0A6B5-E9BF-419F-8098-26073AB0D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D84B2-8A51-4147-B6C0-ED30DDF27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59447-D561-4F6B-95C7-A8E3D62AC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13C335-8549-4C8A-954A-E556B45062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FAFDC-7DC9-446E-A438-BCE464067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DDE34-98F5-42ED-80F5-EA0347291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1BA073-0967-4DE0-8DB5-03B2E8084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591AC-3B1B-43B3-A018-E4F33DF309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3310C-7612-4106-9023-F306E2F3E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14BEE-60D8-477E-901E-546578CFF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14F55-6F66-4832-A778-211E0AB18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3CF69-6613-4C65-A553-4420D8AD3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D4DF5-DD28-4234-9377-057DD00D4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A12F5-6358-4207-95BA-27FA7B8A1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554205-B009-400D-A34C-34E10223E7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AD677D-8802-43F7-B5C1-9F94B9F258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A853B-2130-4A83-9305-28D76847C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B9B63-F6AD-4760-9E5F-44D2D4F27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DAA0F-4AC3-4594-94E5-4918F561D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F08FC-6BDD-4DB6-BA93-1D76578F4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12829-3D50-4A4E-97AC-19327265C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A4C2E-BCCF-4FF2-9BEF-CDF6ABF49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BF122-AAD0-4E6B-BEA6-75D7C13B4E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BB5B3-4B20-40D7-BC6A-E9E74C36840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3BCFA-12A2-4E3E-9395-9EFC3FC601B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ling-ethnog.org.uk/baalleeds2003.ht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earch Methods</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guistic Ethnography</a:t>
            </a:r>
            <a:endParaRPr b="0" lang="en-US" sz="28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ona Copland</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m.copland@aston.ac.uk</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theories?</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cial Theory much invoked:</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g. Bourdieu, Giddens, Freire, Foucault.</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ducational Theorists</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g. Bernstein, Mercer, Bloome</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ourse analytic frameworks:</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g. Fairclough, Hymes, Goffman, Gumperz</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researchers?</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 Rampton</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lia Roberts</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gela Creese</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net Maybin</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rian Blackledge</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rin Tusting</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ant Leung</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rilyn Martin-Jones</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turn to the task</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Data:</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icipant observation (fieldnot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dio and video recording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 and post observation interview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Analysi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ding</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ech Act Analysi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Integrated analysis’ (drawing on fieldnotes, interviews, video, linguistic analysis to create a commentary and a working interpretation)</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cro-analysis of key sections of talk.</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ing data sets in analysi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have a section of a PhD thesis written as a linguistic ethnography.</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nswer the following:</a:t>
            </a:r>
            <a:endParaRPr b="0" lang="en-US" sz="28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at data sets are used?</a:t>
            </a: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at arguments are developed?</a:t>
            </a: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ow do the data sets together contribute to the development of the argu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ading Task</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ead through this section taken from Roberts C. and Sarangi S. (2001) ‘”Like you’re living two lives in one go”: negotiating different social conditions for classroom learning in a further education context in Britain’.  In Heller M. and Martin-Jones M. </a:t>
            </a:r>
            <a:r>
              <a:rPr b="0" i="1" lang="en-GB" sz="2000" spc="-1" strike="noStrike">
                <a:solidFill>
                  <a:srgbClr val="000000"/>
                </a:solidFill>
                <a:latin typeface="Tahoma"/>
              </a:rPr>
              <a:t>Voices of Authority: Education and Linguistic Difference.</a:t>
            </a:r>
            <a:r>
              <a:rPr b="0" lang="en-GB" sz="2000" spc="-1" strike="noStrike">
                <a:solidFill>
                  <a:srgbClr val="000000"/>
                </a:solidFill>
                <a:latin typeface="Tahoma"/>
              </a:rPr>
              <a:t>  Westport Connecticut: Ablex</a:t>
            </a:r>
            <a:endParaRPr b="0" lang="en-US" sz="2000" spc="-1" strike="noStrike">
              <a:solidFill>
                <a:srgbClr val="000000"/>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nswer the following questions:</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hat tools of data collection did they use?</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hat theories/theorists are mentioned?</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hat conclusions do the writers draw about Liz’s classroom and Frances’s classroom?</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ow do they arrive at these conclusions?</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 what ways is this Linguistic Ethnograph?</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lected Bibliography</a:t>
            </a:r>
            <a:endParaRPr b="0" lang="en-US" sz="4400" spc="-1" strike="noStrike">
              <a:solidFill>
                <a:srgbClr val="333399"/>
              </a:solidFill>
              <a:latin typeface="Tahoma"/>
            </a:endParaRPr>
          </a:p>
        </p:txBody>
      </p:sp>
      <p:sp>
        <p:nvSpPr>
          <p:cNvPr id="135" name="PlaceHolder 2"/>
          <p:cNvSpPr>
            <a:spLocks noGrp="1"/>
          </p:cNvSpPr>
          <p:nvPr>
            <p:ph/>
          </p:nvPr>
        </p:nvSpPr>
        <p:spPr>
          <a:xfrm>
            <a:off x="152280" y="2017800"/>
            <a:ext cx="8802720" cy="4687920"/>
          </a:xfrm>
          <a:prstGeom prst="rect">
            <a:avLst/>
          </a:prstGeom>
          <a:noFill/>
          <a:ln w="0">
            <a:noFill/>
          </a:ln>
        </p:spPr>
        <p:txBody>
          <a:bodyPr lIns="90000" rIns="90000" tIns="46800" bIns="46800" anchor="t">
            <a:normAutofit fontScale="95000"/>
          </a:bodyPr>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ourdieu P. 1977. </a:t>
            </a:r>
            <a:r>
              <a:rPr b="0" i="1" lang="en-GB" sz="1200" spc="-1" strike="noStrike">
                <a:solidFill>
                  <a:srgbClr val="000000"/>
                </a:solidFill>
                <a:latin typeface="Tahoma"/>
              </a:rPr>
              <a:t>Outline of a Theory of Practice.</a:t>
            </a:r>
            <a:r>
              <a:rPr b="0" lang="en-GB" sz="1200" spc="-1" strike="noStrike">
                <a:solidFill>
                  <a:srgbClr val="000000"/>
                </a:solidFill>
                <a:latin typeface="Tahoma"/>
              </a:rPr>
              <a:t> Cambridge: Polity Pres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reese A. 2003. Language, ethnicity and the mediation of allegations of racism: Negotiating diversity and sameness in multilingual school discourses. </a:t>
            </a:r>
            <a:r>
              <a:rPr b="0" i="1" lang="en-GB" sz="1200" spc="-1" strike="noStrike">
                <a:solidFill>
                  <a:srgbClr val="000000"/>
                </a:solidFill>
                <a:latin typeface="Tahoma"/>
              </a:rPr>
              <a:t>International Journal of Bilingual Education and Bilingualism</a:t>
            </a:r>
            <a:r>
              <a:rPr b="0" lang="en-GB" sz="1200" spc="-1" strike="noStrike">
                <a:solidFill>
                  <a:srgbClr val="000000"/>
                </a:solidFill>
                <a:latin typeface="Tahoma"/>
              </a:rPr>
              <a:t>. Vol 6 (3-4), p. 221-236.</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reese A. 2007.</a:t>
            </a:r>
            <a:r>
              <a:rPr b="0" i="1" lang="en-GB" sz="1200" spc="-1" strike="noStrike">
                <a:solidFill>
                  <a:srgbClr val="000000"/>
                </a:solidFill>
                <a:latin typeface="Tahoma"/>
              </a:rPr>
              <a:t> </a:t>
            </a:r>
            <a:r>
              <a:rPr b="0" lang="en-GB" sz="1200" spc="-1" strike="noStrike">
                <a:solidFill>
                  <a:srgbClr val="000000"/>
                </a:solidFill>
                <a:latin typeface="Tahoma"/>
              </a:rPr>
              <a:t>‘Linguistic Ethnography’. In Creese A, Martin P and Hornberger N (Eds) </a:t>
            </a:r>
            <a:r>
              <a:rPr b="0" i="1" lang="en-GB" sz="1200" spc="-1" strike="noStrike">
                <a:solidFill>
                  <a:srgbClr val="000000"/>
                </a:solidFill>
                <a:latin typeface="Tahoma"/>
              </a:rPr>
              <a:t>Encyclopedia of Language and Education, Volume 9</a:t>
            </a:r>
            <a:r>
              <a:rPr b="0" lang="en-GB" sz="1200" spc="-1" strike="noStrike">
                <a:solidFill>
                  <a:srgbClr val="000000"/>
                </a:solidFill>
                <a:latin typeface="Tahoma"/>
              </a:rPr>
              <a:t>. Springer.</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airclough N. 1992. </a:t>
            </a:r>
            <a:r>
              <a:rPr b="0" i="1" lang="en-GB" sz="1200" spc="-1" strike="noStrike">
                <a:solidFill>
                  <a:srgbClr val="000000"/>
                </a:solidFill>
                <a:latin typeface="Tahoma"/>
              </a:rPr>
              <a:t>Discourse and Social Change. </a:t>
            </a:r>
            <a:r>
              <a:rPr b="0" lang="en-GB" sz="1200" spc="-1" strike="noStrike">
                <a:solidFill>
                  <a:srgbClr val="000000"/>
                </a:solidFill>
                <a:latin typeface="Tahoma"/>
              </a:rPr>
              <a:t>Oxford: Polity Pres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offman E. 1967. On Face Work.  In </a:t>
            </a:r>
            <a:r>
              <a:rPr b="0" i="1" lang="en-GB" sz="1200" spc="-1" strike="noStrike">
                <a:solidFill>
                  <a:srgbClr val="000000"/>
                </a:solidFill>
                <a:latin typeface="Tahoma"/>
              </a:rPr>
              <a:t>Interactional Ritual.</a:t>
            </a:r>
            <a:r>
              <a:rPr b="0" lang="en-GB" sz="1200" spc="-1" strike="noStrike">
                <a:solidFill>
                  <a:srgbClr val="000000"/>
                </a:solidFill>
                <a:latin typeface="Tahoma"/>
              </a:rPr>
              <a:t> New York: Basic Book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offman E. 1981.  </a:t>
            </a:r>
            <a:r>
              <a:rPr b="0" i="1" lang="en-GB" sz="1200" spc="-1" strike="noStrike">
                <a:solidFill>
                  <a:srgbClr val="000000"/>
                </a:solidFill>
                <a:latin typeface="Tahoma"/>
              </a:rPr>
              <a:t>Forms of Talk. </a:t>
            </a:r>
            <a:r>
              <a:rPr b="0" lang="en-GB" sz="1200" spc="-1" strike="noStrike">
                <a:solidFill>
                  <a:srgbClr val="000000"/>
                </a:solidFill>
                <a:latin typeface="Tahoma"/>
              </a:rPr>
              <a:t>Philadelphia: University of Pennsylvania Pres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oodwin C. 2000. Action and embodiment within situated human interaction.  </a:t>
            </a:r>
            <a:r>
              <a:rPr b="0" i="1" lang="en-GB" sz="1200" spc="-1" strike="noStrike">
                <a:solidFill>
                  <a:srgbClr val="000000"/>
                </a:solidFill>
                <a:latin typeface="Tahoma"/>
              </a:rPr>
              <a:t>Journal of Pragmatics </a:t>
            </a:r>
            <a:r>
              <a:rPr b="0" lang="en-GB" sz="1200" spc="-1" strike="noStrike">
                <a:solidFill>
                  <a:srgbClr val="000000"/>
                </a:solidFill>
                <a:latin typeface="Tahoma"/>
              </a:rPr>
              <a:t>Vol. 32, 1489 – 1522</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ymes D. (1974) </a:t>
            </a:r>
            <a:r>
              <a:rPr b="0" i="1" lang="en-GB" sz="1200" spc="-1" strike="noStrike">
                <a:solidFill>
                  <a:srgbClr val="000000"/>
                </a:solidFill>
                <a:latin typeface="Tahoma"/>
              </a:rPr>
              <a:t>Foundations in Sociolinguistics: an Ethnographic Approach.  </a:t>
            </a:r>
            <a:r>
              <a:rPr b="0" lang="en-GB" sz="1200" spc="-1" strike="noStrike">
                <a:solidFill>
                  <a:srgbClr val="000000"/>
                </a:solidFill>
                <a:latin typeface="Tahoma"/>
              </a:rPr>
              <a:t>Philadelphia: University of Philadelphia Pres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artin-Jones M. and Saxena M. 1996. Turn-Taking, Power Asymmetries, and the Positioning of Bilingual Participants in Classroom Discourse.  </a:t>
            </a:r>
            <a:r>
              <a:rPr b="0" i="1" lang="en-GB" sz="1200" spc="-1" strike="noStrike">
                <a:solidFill>
                  <a:srgbClr val="000000"/>
                </a:solidFill>
                <a:latin typeface="Tahoma"/>
              </a:rPr>
              <a:t>Linguistics and Education</a:t>
            </a:r>
            <a:r>
              <a:rPr b="0" lang="en-GB" sz="1200" spc="-1" strike="noStrike">
                <a:solidFill>
                  <a:srgbClr val="000000"/>
                </a:solidFill>
                <a:latin typeface="Tahoma"/>
              </a:rPr>
              <a:t> 8,  p. 105 - 123 </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tudies of talk and learning in education.  Paper given at BAAL Linguistic </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aybin J. 2003. The potential contribution of Linguistic Ethnography to Vygotskian </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thnography Forum, Leeds, 2003.  Accessed from </a:t>
            </a:r>
            <a:r>
              <a:rPr b="0" lang="en-GB" sz="1200" spc="-1" strike="noStrike" u="sng">
                <a:solidFill>
                  <a:srgbClr val="ff0000"/>
                </a:solidFill>
                <a:uFillTx/>
                <a:latin typeface="Tahoma"/>
                <a:hlinkClick r:id="rId1"/>
              </a:rPr>
              <a:t>http://www.ling-ethnog.org.uk/baalleeds2003.htm</a:t>
            </a:r>
            <a:r>
              <a:rPr b="0" lang="en-GB" sz="1200" spc="-1" strike="noStrike">
                <a:solidFill>
                  <a:srgbClr val="000000"/>
                </a:solidFill>
                <a:latin typeface="Tahoma"/>
              </a:rPr>
              <a:t>, 18th December, 2007</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ercer N. 1995. </a:t>
            </a:r>
            <a:r>
              <a:rPr b="0" i="1" lang="en-GB" sz="1200" spc="-1" strike="noStrike">
                <a:solidFill>
                  <a:srgbClr val="000000"/>
                </a:solidFill>
                <a:latin typeface="Tahoma"/>
              </a:rPr>
              <a:t>The Guided Construction of Knowledge. </a:t>
            </a:r>
            <a:r>
              <a:rPr b="0" lang="en-GB" sz="1200" spc="-1" strike="noStrike">
                <a:solidFill>
                  <a:srgbClr val="000000"/>
                </a:solidFill>
                <a:latin typeface="Tahoma"/>
              </a:rPr>
              <a:t>Clevedon: Multilingual Matter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ampton B. 2007b. Neo-Hymesian Linguistic Ethnography in the UK.  </a:t>
            </a:r>
            <a:r>
              <a:rPr b="0" i="1" lang="en-GB" sz="1200" spc="-1" strike="noStrike">
                <a:solidFill>
                  <a:srgbClr val="000000"/>
                </a:solidFill>
                <a:latin typeface="Tahoma"/>
              </a:rPr>
              <a:t>Journal of Sociolinguistics. </a:t>
            </a:r>
            <a:r>
              <a:rPr b="0" lang="en-GB" sz="1200" spc="-1" strike="noStrike">
                <a:solidFill>
                  <a:srgbClr val="000000"/>
                </a:solidFill>
                <a:latin typeface="Tahoma"/>
              </a:rPr>
              <a:t>Vol. 11 (5), 1 -19</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oberts C and Sarangi S 1999. Hybridity in gatekeeping discourse: Issues of practical relevance for the researcher.  In Roberts C and Sarangi S. </a:t>
            </a:r>
            <a:r>
              <a:rPr b="0" i="1" lang="en-GB" sz="1200" spc="-1" strike="noStrike">
                <a:solidFill>
                  <a:srgbClr val="000000"/>
                </a:solidFill>
                <a:latin typeface="Tahoma"/>
              </a:rPr>
              <a:t>Talk, Work and Institutional Order Discourse in Medical, Mediation and Management Settings.  </a:t>
            </a:r>
            <a:r>
              <a:rPr b="0" lang="en-GB" sz="1200" spc="-1" strike="noStrike">
                <a:solidFill>
                  <a:srgbClr val="000000"/>
                </a:solidFill>
                <a:latin typeface="Tahoma"/>
              </a:rPr>
              <a:t>Berlin: Mouton de Gruyter.</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oberts C. and Sarangi S. 2001. ”Like your’re living two lives in one go”: negotiating different social conditions for classroom learning in a further education context in Britain.  In Heller M. and Martin-Jones M. (eds) </a:t>
            </a:r>
            <a:r>
              <a:rPr b="0" i="1" lang="en-GB" sz="1200" spc="-1" strike="noStrike">
                <a:solidFill>
                  <a:srgbClr val="000000"/>
                </a:solidFill>
                <a:latin typeface="Tahoma"/>
              </a:rPr>
              <a:t>Voices of Authority: Education and Linguistic Difference. </a:t>
            </a:r>
            <a:r>
              <a:rPr b="0" lang="en-GB" sz="1200" spc="-1" strike="noStrike">
                <a:solidFill>
                  <a:srgbClr val="000000"/>
                </a:solidFill>
                <a:latin typeface="Tahoma"/>
              </a:rPr>
              <a:t>Westport, CT: Ablex</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usting K. and Maybin J. 2007. ‘Linguistic ethnography and interdisciplinarity: Opening the discussion’.  </a:t>
            </a:r>
            <a:r>
              <a:rPr b="0" i="1" lang="en-GB" sz="1200" spc="-1" strike="noStrike">
                <a:solidFill>
                  <a:srgbClr val="000000"/>
                </a:solidFill>
                <a:latin typeface="Tahoma"/>
              </a:rPr>
              <a:t>Journal of Sociolinguistics</a:t>
            </a:r>
            <a:r>
              <a:rPr b="0" lang="en-GB" sz="1200" spc="-1" strike="noStrike">
                <a:solidFill>
                  <a:srgbClr val="000000"/>
                </a:solidFill>
                <a:latin typeface="Tahoma"/>
              </a:rPr>
              <a:t> Vol 11 (5), 575 - 583</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Wetherell M. 2007. A step too far: Discursive psychology, linguistic ethnography and questions of identity. </a:t>
            </a:r>
            <a:r>
              <a:rPr b="0" i="1" lang="en-GB" sz="1200" spc="-1" strike="noStrike">
                <a:solidFill>
                  <a:srgbClr val="000000"/>
                </a:solidFill>
                <a:latin typeface="Tahoma"/>
              </a:rPr>
              <a:t>Journal of Sociolinguistics. </a:t>
            </a:r>
            <a:r>
              <a:rPr b="0" lang="en-GB" sz="1200" spc="-1" strike="noStrike">
                <a:solidFill>
                  <a:srgbClr val="000000"/>
                </a:solidFill>
                <a:latin typeface="Tahoma"/>
              </a:rPr>
              <a:t>Vol. 11 (5), 662-681</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ask – </a:t>
            </a:r>
            <a:r>
              <a:rPr b="0" lang="en-US" sz="3600" spc="-1" strike="noStrike">
                <a:solidFill>
                  <a:srgbClr val="333399"/>
                </a:solidFill>
                <a:latin typeface="Tahoma"/>
              </a:rPr>
              <a:t>thinking about research</a:t>
            </a:r>
            <a:endParaRPr b="0" lang="en-US" sz="3600" spc="-1" strike="noStrike">
              <a:solidFill>
                <a:srgbClr val="333399"/>
              </a:solidFill>
              <a:latin typeface="Tahoma"/>
            </a:endParaRPr>
          </a:p>
        </p:txBody>
      </p:sp>
      <p:sp>
        <p:nvSpPr>
          <p:cNvPr id="109" name="PlaceHolder 2"/>
          <p:cNvSpPr>
            <a:spLocks noGrp="1"/>
          </p:cNvSpPr>
          <p:nvPr>
            <p:ph/>
          </p:nvPr>
        </p:nvSpPr>
        <p:spPr>
          <a:xfrm>
            <a:off x="609480" y="2017800"/>
            <a:ext cx="8345520" cy="42307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want to investigate feedback in initial teacher training (that is, when tutors give teachers-in-training feedback on their teaching performance).</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want to answer the following research questions:</a:t>
            </a:r>
            <a:endParaRPr b="0" lang="en-US" sz="2400" spc="-1" strike="noStrike">
              <a:solidFill>
                <a:srgbClr val="000000"/>
              </a:solidFill>
              <a:latin typeface="Tahoma"/>
            </a:endParaRPr>
          </a:p>
          <a:p>
            <a:pPr marL="609480" indent="-609480">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is feedback organised?</a:t>
            </a:r>
            <a:endParaRPr b="0" lang="en-US" sz="2400" spc="-1" strike="noStrike">
              <a:solidFill>
                <a:srgbClr val="000000"/>
              </a:solidFill>
              <a:latin typeface="Tahoma"/>
            </a:endParaRPr>
          </a:p>
          <a:p>
            <a:pPr marL="609480" indent="-609480">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are power relations between participants managed?</a:t>
            </a:r>
            <a:endParaRPr b="0" lang="en-US" sz="2400" spc="-1" strike="noStrike">
              <a:solidFill>
                <a:srgbClr val="000000"/>
              </a:solidFill>
              <a:latin typeface="Tahoma"/>
            </a:endParaRPr>
          </a:p>
          <a:p>
            <a:pPr marL="609480" indent="-609480">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is knowledge about language teaching discussed and described?</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research methods would you use to investigate this area?</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linguistic ethnography?</a:t>
            </a:r>
            <a:endParaRPr b="0" lang="en-US" sz="4400" spc="-1" strike="noStrike">
              <a:solidFill>
                <a:srgbClr val="333399"/>
              </a:solidFill>
              <a:latin typeface="Tahoma"/>
            </a:endParaRPr>
          </a:p>
        </p:txBody>
      </p:sp>
      <p:sp>
        <p:nvSpPr>
          <p:cNvPr id="111" name="PlaceHolder 2"/>
          <p:cNvSpPr>
            <a:spLocks noGrp="1"/>
          </p:cNvSpPr>
          <p:nvPr>
            <p:ph/>
          </p:nvPr>
        </p:nvSpPr>
        <p:spPr>
          <a:xfrm>
            <a:off x="533160" y="2133720"/>
            <a:ext cx="8421480" cy="399888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n approach/philosophy rather than a method.</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t ‘marries’ (Wetherall, 2007) linguistics with ethnography: it ‘borrows’ data collection and analysis tools from ethnography and linguistics.</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It is ‘post-modern’ in that it is calls for the researcher to be reflexive.</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tied to the social in that it is used to research social problems/contexts.  </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British in that it originates in UK sociolinguistics (cf. linguistic anthropology in USA).</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do linguistic ethnographers do?</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en-US" sz="3200" spc="-1" strike="noStrike">
                <a:solidFill>
                  <a:srgbClr val="000000"/>
                </a:solidFill>
                <a:latin typeface="Tahoma"/>
              </a:rPr>
              <a:t>	</a:t>
            </a:r>
            <a:r>
              <a:rPr b="0" lang="en-US" sz="3200" spc="-1" strike="noStrike">
                <a:solidFill>
                  <a:srgbClr val="000000"/>
                </a:solidFill>
                <a:latin typeface="Tahoma"/>
              </a:rPr>
              <a:t>They collect both ethnographic and linguistic data.</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Ethnography</a:t>
            </a:r>
            <a:r>
              <a:rPr b="0" lang="en-US" sz="3200" spc="-1" strike="noStrike">
                <a:solidFill>
                  <a:srgbClr val="000000"/>
                </a:solidFill>
                <a:latin typeface="Tahoma"/>
              </a:rPr>
              <a:t>:</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notes (through participant observation)/teacher diaries/ ‘go alongs’ (Rock, 2005)/interviews/’look backs’</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Linguistics:</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xts/audio recordings/visual recording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do linguistic ethnographers do?</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e ethnographic and linguistic tools of analysi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g. coding/categorising; CA (Conversation Analysis); multi-modal analysis; vignett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ually a focus on ‘micro-analysis’, analysing a small section of talk in a great deal of detail: the ‘aesthetic of smallness and slowness’ (Roberts, 2008).</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do linguistic ethnographers do?</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ask:</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know that?</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 what?</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bring together ethnography and linguistics?</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inguistic Ethnography Forum characterises the relationship between linguistics and ethnography as ‘tying ethnography down’ and ‘opening linguistics up’ (2004: 4) so that the value of discourse analysis in ethnography is foregrounded (Creese, 2007) and over-analysis and interpretation is avoided (Roberts, 2008).</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bring together ethnography and linguistics?</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Ethnography can be seen as </a:t>
            </a:r>
            <a:r>
              <a:rPr b="0" i="1" lang="en-US" sz="3200" spc="-1" strike="noStrike">
                <a:solidFill>
                  <a:srgbClr val="000000"/>
                </a:solidFill>
                <a:latin typeface="Tahoma"/>
              </a:rPr>
              <a:t>humanising</a:t>
            </a:r>
            <a:r>
              <a:rPr b="0" lang="en-US" sz="3200" spc="-1" strike="noStrike">
                <a:solidFill>
                  <a:srgbClr val="000000"/>
                </a:solidFill>
                <a:latin typeface="Tahoma"/>
              </a:rPr>
              <a:t> language study, preventing linguistics from being reductive or shallow by embedding it in rich descriptions of how the users of a given variety adapt their language to different situational purposes and contexts.’ (Rampton, 2007: 10).</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ethodological warrant?</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methodological warrant for LE is formalised by Heller and Martin-Jones (2001:12)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t>
            </a:r>
            <a:r>
              <a:rPr b="0" lang="en-GB" sz="2800" spc="-1" strike="noStrike">
                <a:solidFill>
                  <a:srgbClr val="000000"/>
                </a:solidFill>
                <a:latin typeface="Tahoma"/>
              </a:rPr>
              <a:t>The tools of ethnomethodological and interactionist sociolinguistics must be brought together with tools of ethnography, which allow us to situate interactions with respect to the webs and resources we have discus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SA</cp:lastModifiedBy>
  <dcterms:modified xsi:type="dcterms:W3CDTF">2008-12-17T10:36:01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